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6669-F35C-4E48-84C8-83582812C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this website of a medical illustrator on December 6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 -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intestine - solid wa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 - transforms tox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s - soluble was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C5CE-5D4D-460D-A612-92BF2F074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DCCB-62E0-4C45-AFE6-8CFE8F86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ED02-23AC-4234-8DCB-CE4BF8AE1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F95C-E283-4143-8E91-C1033F73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F9F0-3720-4D0C-89EF-2A4F2125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E3B4-891D-4519-BDAB-390A3A04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415A-6E68-4F61-B19A-9089B1AF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0C05-6375-4854-B5B3-52D2C100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7299-68DF-402F-B8A4-456AB223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99C2-D167-4495-B75C-2C12A359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9AA7-0BAD-4558-830E-2780B30B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3175-5BE6-43E4-883B-B193515D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B6E8-EECE-4826-969A-3ED4C69A8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khanacademy.org/video/the-kidney-and-nephron?playlist=Biology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4z98WIeNtj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taining An Internal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3 &amp; 7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82920" y="609480"/>
            <a:ext cx="4176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dney Structure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yalemedicalgroup.org/stw/Page.asp?PageID=STW02898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u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al pel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48320" y="2147760"/>
            <a:ext cx="380988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dney Kiwi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s from: http://drawbones.com/2009/01/dissection-of-the-kidney-kiwi/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029040" y="198108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dney Kiwi Dis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ph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unctional unit of the kidney i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ph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bout 1 million nephrons in each kid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52680" y="609480"/>
            <a:ext cx="6037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phrons - Blood F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on previous slide from: http://www.kidneyadvice.net/kidney%20disorders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flows from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erent arterio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merul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n to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rent arteri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fferent arterioles branch into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itubu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lla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wrap around the kidney tu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flows out through branches of the renal v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552680" y="609480"/>
            <a:ext cx="6037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phrons - Urine 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from the glomerulus is filtered and the liquid enter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wman’s caps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ximal tub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carries urine to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p of Hen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to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al tub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then to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ecting 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llecting ducts merge in the renal pel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52680" y="609480"/>
            <a:ext cx="6037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retion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cartoonstudio.co.uk/Pages/kmeters1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ing waste is important for all living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24200" y="3124080"/>
            <a:ext cx="5141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01680" y="609480"/>
            <a:ext cx="6740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751040" y="609480"/>
            <a:ext cx="5641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link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mages on previous slides from: http://kcfac.kilgore.cc.tx.us/mobleypageap1/quizzes_and_downloads.htm and http://www.medical-illustrations.ca/1010-kidney-nephron-diagram/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han academy…this video starts off with the structure of the kidney &amp; nephron, then goes into detail about the formation of urine (covered in 7.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khanacademy.org/video/the-kidney-and-nephron?playlist=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cellular Org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onstant contact with extern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simple methods of ex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balance is often maintained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actile vacu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4z98WIeNtj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cellular Org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specialized cells for ex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s from other cells must be transported to the specialize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Wa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bodies eliminate wastes through various orga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ngs (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intestine (solid was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r (transforms toxins for remov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dneys (soluble was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rina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520" y="380988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academic.kellogg.edu/herbrandsonc/bio201_mckinley/Urinary%20System.h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al Blood Flow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revolutionhealth.com/articles/blood-supply-to-the-kidneys/tp130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is brought to the kidneys by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ed blood leaves the kidneys through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48320" y="2795760"/>
            <a:ext cx="38098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rina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dneys can hold up to 25% of the body’s blood at a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dneys filter the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ine (with wastes and toxins) is conducted to the bladder through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rinary System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on next slide from: http://en.wikipedia.org/wiki/Urinary_syst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tch receptors in the bladder send signals to the brain, which sends signals to the urinary sphincter muscle at the base of the bladder to rel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ine exits the bladder through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reth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1:19:22Z</dcterms:created>
  <dc:creator>rubina khan</dc:creator>
  <dc:description/>
  <dc:language>en-US</dc:language>
  <cp:lastModifiedBy>rubina khan</cp:lastModifiedBy>
  <dcterms:modified xsi:type="dcterms:W3CDTF">2011-12-07T10:48:18Z</dcterms:modified>
  <cp:revision>139</cp:revision>
  <dc:subject/>
  <dc:title>Maintaining An Internal Balance</dc:title>
</cp:coreProperties>
</file>